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3857760" y="0"/>
            <a:ext cx="294768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705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06120" y="4722480"/>
            <a:ext cx="4992840" cy="4475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-360" y="944892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3857760" y="9448920"/>
            <a:ext cx="294768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F338E85-14CA-4440-8208-C560520947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55960" y="94456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1BDE-6E07-466B-A7B2-F99415F1E6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55960" y="94456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183A-3A8F-439B-A63E-8BCEFFFA65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55960" y="94456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6EE4-7F7E-4805-A2E8-91556B2B83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55960" y="94456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68FD-4588-4C5E-9755-AF6A559112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52A0-30ED-4A7B-8C88-A3DEF7B4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D6CE-B03B-47BF-830D-E42712D1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F4C0-87E1-4E1C-A71F-1D773367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1C3A-3C6A-4D49-9328-9746E577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5223-8862-480A-8C2E-AEC51ECB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A158-63C3-4046-84F2-F1912055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A6D6-125D-4D24-B705-90B50990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AAAF-2971-455C-98E2-7A650528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F873-0119-450E-836F-687BCFDC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5E97-4EEC-46DC-AB94-7AEB3D77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BBD2-79DF-4518-A64F-16174A62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F142-5F54-40C8-865C-F0029B68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1FD7-B7AA-46B4-A618-0DCDAF5E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9C5D-3347-43F0-9152-941D35D2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3CD0-01C1-41C0-89BB-60D0A63C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D192-271B-417A-B43B-F5D06C02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BE13-A38D-40A2-A016-D47E2590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79834-EE94-4413-BF32-2F4240F6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76291-99F0-4E94-8E6C-9083DEB3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AC5CF-8F0E-4105-A6A7-4682A129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22627-5AE8-4353-97C2-45D5119F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91C2D-2097-4C1C-890C-471AB23C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7755-25B7-46B5-8394-E30FD0F3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A2CA8-A011-4DFE-91AD-D7CD7EFD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22DAD-9770-44A6-9CC9-978879C1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D08AE-BF07-45C6-A187-4A3B19A5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8C19D-9D4B-432D-B1C7-FCC60E9F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DBBAB-6EC8-491C-B441-8BC1DB72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7A00D-A446-4739-A5A9-EFA48AB7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1E012-0F99-49B7-98C4-1742F84F2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DFE10-9452-4535-91AC-F3437CEE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2374A-FB27-49D1-97F1-9D65697D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D617C-2F41-472D-AA4C-EDFEA4B9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867D-372A-41C5-883D-897C5EE4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134C7-0F01-4EB6-9F25-2AFC95EB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24F39-63DB-4708-A3F0-493F933C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AC554-BCA7-4B9E-A990-7E7A8997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BB5DD-A6C3-4318-A1B7-BBF4D593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CACD1-EAA3-49CD-8B09-66121CD9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0C753-DF7C-4C3D-B5AD-8E70C013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C3E78-DEA8-4792-9CFE-327BC31A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0F292-B044-440F-9180-FC1C77B0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79AE0-3267-4B60-87A4-DF044460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AA4E-8822-4894-B43A-C7C2827A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A425-F029-4724-87E5-4A2D1D79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3498-5980-4CFC-9864-AC6EA84E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3466-6AEA-4C6E-8750-35F67477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B864-30EF-4D91-83B0-9F712F10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20E5-3022-4E4B-9F1B-E35789F47C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9EC9-EA84-4516-A87F-F19F437114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DDBB-E135-462B-BE39-72464C1BEE82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EDA4-0D40-40B8-ABDE-EE922008B322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ec.europa.eu/growth/sectors/cosmetics_en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2565360"/>
            <a:ext cx="83534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Verdana"/>
              </a:rPr>
              <a:t>EU Cosmetics Regulation</a:t>
            </a:r>
            <a:br>
              <a:rPr sz="3600"/>
            </a:br>
            <a:r>
              <a:rPr b="1" lang="en-US" sz="3600" spc="-1" strike="noStrike">
                <a:solidFill>
                  <a:srgbClr val="ffd624"/>
                </a:solidFill>
                <a:latin typeface="Verdana"/>
              </a:rPr>
              <a:t>and the hairdressing sector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Content Placeholder 2"/>
          <p:cNvSpPr/>
          <p:nvPr/>
        </p:nvSpPr>
        <p:spPr>
          <a:xfrm>
            <a:off x="539640" y="5372280"/>
            <a:ext cx="7921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alvatore D’Acu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ead of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ealth Technology and Cosme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DG Internal Market, Industry, Entrepreneurship and SMEs (DG GR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187280" y="4149720"/>
            <a:ext cx="7056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marL="299880" indent="-299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624"/>
                </a:solidFill>
                <a:latin typeface="Verdana"/>
                <a:ea typeface="ＭＳ Ｐゴシック"/>
              </a:rPr>
              <a:t>SSDC on Person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624"/>
                </a:solidFill>
                <a:latin typeface="Verdana"/>
                <a:ea typeface="ＭＳ Ｐゴシック"/>
              </a:rPr>
              <a:t>Working Group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624"/>
                </a:solidFill>
                <a:latin typeface="Verdana"/>
                <a:ea typeface="ＭＳ Ｐゴシック"/>
              </a:rPr>
              <a:t>18 September 2018, Bruss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0920" y="1268280"/>
            <a:ext cx="8929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487e"/>
                </a:solidFill>
                <a:latin typeface="Verdana"/>
              </a:rPr>
              <a:t>Application of Regulation (EU) 1223/2009                      (Cosmetics Regulation) to hairdressing secto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1280" y="2060640"/>
            <a:ext cx="896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87e"/>
                </a:solidFill>
                <a:latin typeface="Arial"/>
              </a:rPr>
              <a:t>Cosmetics must be safe for both consumers and professionals (hairdressers)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87e"/>
                </a:solidFill>
                <a:latin typeface="Arial"/>
              </a:rPr>
              <a:t>Safety must be ensured by manufacturers and controlled by Member States Competent Authorities 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87e"/>
                </a:solidFill>
                <a:latin typeface="Arial"/>
              </a:rPr>
              <a:t>Safety assessment requirements consider the exposure to the product of </a:t>
            </a:r>
            <a:r>
              <a:rPr b="0" i="1" lang="en-US" sz="2200" spc="-1" strike="noStrike">
                <a:solidFill>
                  <a:srgbClr val="00487e"/>
                </a:solidFill>
                <a:latin typeface="Arial"/>
              </a:rPr>
              <a:t>‘the targeted (or exposed) population(s)’</a:t>
            </a:r>
            <a:r>
              <a:rPr b="0" lang="en-US" sz="2200" spc="-1" strike="noStrike">
                <a:solidFill>
                  <a:srgbClr val="00487e"/>
                </a:solidFill>
                <a:latin typeface="Arial"/>
              </a:rPr>
              <a:t>, i.e. hairdresser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87e"/>
                </a:solidFill>
                <a:latin typeface="Arial"/>
              </a:rPr>
              <a:t>Use instructions and warning statements must be printed on cosmetics for professional use </a:t>
            </a:r>
            <a:r>
              <a:rPr b="0" lang="en-US" sz="1800" spc="-1" strike="noStrike">
                <a:solidFill>
                  <a:srgbClr val="00487e"/>
                </a:solidFill>
                <a:latin typeface="Arial"/>
              </a:rPr>
              <a:t>(such as </a:t>
            </a:r>
            <a:r>
              <a:rPr b="0" i="1" lang="en-US" sz="1800" spc="-1" strike="noStrike">
                <a:solidFill>
                  <a:srgbClr val="00487e"/>
                </a:solidFill>
                <a:latin typeface="Arial"/>
              </a:rPr>
              <a:t>'wear suitable gloves‘ </a:t>
            </a:r>
            <a:r>
              <a:rPr b="0" lang="en-US" sz="1800" spc="-1" strike="noStrike">
                <a:solidFill>
                  <a:srgbClr val="00487e"/>
                </a:solidFill>
                <a:latin typeface="Arial"/>
              </a:rPr>
              <a:t>on hair dyes)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87e"/>
                </a:solidFill>
                <a:latin typeface="Arial"/>
              </a:rPr>
              <a:t>Cosmetic ingredients of concern for human health are subject to scientific risk assessment and restrictions for us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360" y="1123560"/>
            <a:ext cx="8929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487e"/>
                </a:solidFill>
                <a:latin typeface="Verdana"/>
              </a:rPr>
              <a:t>Risk assessment by the EU Scientific Committee on Consumer Safety (SCC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4000" y="2060640"/>
            <a:ext cx="8712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3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87e"/>
                </a:solidFill>
                <a:latin typeface="Arial"/>
              </a:rPr>
              <a:t>Identification of cosmetic ingredient of concern for human health (by MS/stakeholders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3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87e"/>
                </a:solidFill>
                <a:latin typeface="Arial"/>
              </a:rPr>
              <a:t>Public call for data on the safety of the ingredient launched by DG GROW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3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87e"/>
                </a:solidFill>
                <a:latin typeface="Arial"/>
              </a:rPr>
              <a:t>Preparation of a mandate by DG GROW (with the submitted safety data) to SCCS for risk assessmen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3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87e"/>
                </a:solidFill>
                <a:latin typeface="Arial"/>
              </a:rPr>
              <a:t>The mandate is published on the SCCS website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3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87e"/>
                </a:solidFill>
                <a:latin typeface="Arial"/>
              </a:rPr>
              <a:t>SCCS conducts the risk assessment of the ingredient (+/- 6 months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3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87e"/>
                </a:solidFill>
                <a:latin typeface="Arial"/>
              </a:rPr>
              <a:t>SCCS publishes a draft opinion open for public comments (+/- 8 weeks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3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87e"/>
                </a:solidFill>
                <a:latin typeface="Arial"/>
              </a:rPr>
              <a:t>SCCS finalizes the opinion and publishes it on its website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3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87e"/>
                </a:solidFill>
                <a:latin typeface="Arial"/>
              </a:rPr>
              <a:t>COM proposal to be discussed with stakeholders and voted by M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3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87e"/>
                </a:solidFill>
                <a:latin typeface="Arial"/>
              </a:rPr>
              <a:t>COM adopts the regulatory measur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640" y="1197000"/>
            <a:ext cx="8929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487e"/>
                </a:solidFill>
                <a:latin typeface="Verdana"/>
              </a:rPr>
              <a:t>Proposed Actions on Cosmetic Produ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39280" y="206028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120000"/>
              </a:lnSpc>
              <a:spcAft>
                <a:spcPts val="2401"/>
              </a:spcAft>
              <a:buClr>
                <a:srgbClr val="003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87e"/>
                </a:solidFill>
                <a:latin typeface="Arial"/>
              </a:rPr>
              <a:t>Invite Social Partners (SP) to a meeting of the Working Group on Cosmetic Products (December 2018) to present their concerns to Member State Competent Authorities and stakeholders both on new regulatory measures and on market surveillanc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57120" indent="-357120">
              <a:lnSpc>
                <a:spcPct val="120000"/>
              </a:lnSpc>
              <a:spcAft>
                <a:spcPts val="2401"/>
              </a:spcAft>
              <a:buClr>
                <a:srgbClr val="003192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87e"/>
                </a:solidFill>
                <a:latin typeface="Arial"/>
              </a:rPr>
              <a:t>Involve SP in the work of the SCCS via periodic SCCS newsletters published (twice a year) by DG SANTE on its websit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57120" indent="-357120">
              <a:lnSpc>
                <a:spcPct val="120000"/>
              </a:lnSpc>
              <a:spcAft>
                <a:spcPts val="2401"/>
              </a:spcAft>
              <a:buClr>
                <a:srgbClr val="00319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87e"/>
                </a:solidFill>
                <a:latin typeface="Arial"/>
              </a:rPr>
              <a:t>A workshop covering also the application of the EU Cosmetics Regulation on the safe use of cosmetic products by hairdressers, with a specific focus on the risk assessment procedures followed by the SCCS and the various opportunities for interested stakeholders (incl. SP) to contribut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360" y="1267920"/>
            <a:ext cx="8929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87e"/>
                </a:solidFill>
                <a:latin typeface="Verdana"/>
              </a:rPr>
              <a:t>Useful link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4000" y="2349360"/>
            <a:ext cx="849600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2401"/>
              </a:spcAft>
              <a:buClr>
                <a:srgbClr val="00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87e"/>
                </a:solidFill>
                <a:latin typeface="Arial"/>
              </a:rPr>
              <a:t>DG GROW Cosmetics website: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</a:t>
            </a:r>
            <a:r>
              <a:rPr b="0" lang="en-GB" sz="2000" spc="-1" strike="noStrike">
                <a:solidFill>
                  <a:srgbClr val="00487e"/>
                </a:solidFill>
                <a:latin typeface="Arial"/>
              </a:rPr>
              <a:t>ec.europa.eu/growth/sectors/cosmetics_en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2401"/>
              </a:spcAft>
              <a:buClr>
                <a:srgbClr val="00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87e"/>
                </a:solidFill>
                <a:latin typeface="Arial"/>
              </a:rPr>
              <a:t>Scientific Committee on Consumer Safety website: https://ec.europa.eu/health/scientific_committees/consumer_safety_e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2401"/>
              </a:spcAft>
              <a:buClr>
                <a:srgbClr val="00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87e"/>
                </a:solidFill>
                <a:latin typeface="Arial"/>
              </a:rPr>
              <a:t>DG GROW contact:                                                                                               GROW-COSMETICS-AND-MEDICAL-DEVICES@ec.europa.eu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4:21:50Z</dcterms:created>
  <dc:creator>dummy</dc:creator>
  <dc:description/>
  <dc:language>en-US</dc:language>
  <cp:lastModifiedBy>MOKRY Roman (GROW)</cp:lastModifiedBy>
  <cp:lastPrinted>2018-09-12T14:10:17Z</cp:lastPrinted>
  <dcterms:modified xsi:type="dcterms:W3CDTF">2018-09-13T16:59:08Z</dcterms:modified>
  <cp:revision>159</cp:revision>
  <dc:subject/>
  <dc:title>Health &amp; Consumers Directorate General</dc:title>
</cp:coreProperties>
</file>