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3"/>
          </p:nvPr>
        </p:nvSpPr>
        <p:spPr>
          <a:xfrm>
            <a:off x="3857760" y="0"/>
            <a:ext cx="294768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705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906120" y="4722480"/>
            <a:ext cx="4992840" cy="4475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-360" y="944892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3857760" y="9448920"/>
            <a:ext cx="294768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0410E5C-64B5-4D19-BCA0-8F99747DE1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55960" y="94456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7560-9C18-42A0-9CDB-C76AF19430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8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55960" y="94456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CBA9-60FD-4395-AA23-FB287C4697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8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55960" y="94456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D6AC-3614-4620-82B5-91C7782032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8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55960" y="94456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54E2-600F-4D73-B2C6-350484381C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8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5CD7-A447-4C25-9532-D9642EFE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2CEE-BA14-4C02-BC4B-D010FCA6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2087-4C42-4F9C-BB8D-0E2FDA2C8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AC58-35D8-4996-BAC8-FB52CA52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3ABD-5239-477B-9453-7036C122B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412D-1C29-4475-845D-9D7A56F4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F3A4-03E3-43DB-91A8-A236E39E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7349-A790-4974-9DCC-7D3D6599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4B76-7095-4B97-82F2-852B0EB7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435F-55B6-4737-A5C7-1B5B6384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0E54-57D2-4758-BE3C-B55C4EED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2B37-2E83-413D-8EE4-8D7C5313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B68E-0FFF-4EB4-8ABA-F1683C33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9981-B861-4F87-90E4-02522284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ADB0-CC62-4AAB-A9F9-95B2A0CC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AF1A-31F5-4848-AF9D-9E61F5372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BCC0-2A62-42E0-B635-77B38F128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71506-732A-41C2-9246-58A3797F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2F9D2-DE92-449A-8232-1B64AE46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86A99-C9CA-4CBA-8625-F3343980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31FF2-C5C6-4E21-A6AC-9808A6E0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765AC-EB38-41DB-93BD-B35EA3B2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A92C-66D0-472E-A2CF-C87D88AA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97A1B-1CD2-4754-82C0-627CCBC5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B0F06-7D2C-460B-B77E-F0B3D57C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A7A5B-5392-4F31-B2AC-26F0D06A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A3555-3EAE-4BF9-B799-6D06F1F6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24522-D0E1-429A-A04E-13E42121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83D07-DE6C-4B91-9ABB-69B46288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45D0C-EE39-46B3-BAF1-0AB3E4863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A0FF4-7B9E-4334-86F8-8EDA22924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349C4-75A7-4DE4-8D96-DE59FD89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0B049-DFB2-4E4A-A7AE-4BAF1DEA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DFEE-649E-4954-867E-8C305A20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3CD2E-CD89-4CF5-BD88-87F91A4F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71416-9017-458E-AE8F-72E72A7F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B0CEE-8C75-4C97-AA4C-26BFC1BF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1C3C8-D96F-4C08-AC1F-F64D7DFA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ECC9B-502A-4327-8461-583CC0B7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E5913-B004-4477-B049-434093DE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09174-AE60-4CF3-A2DF-2D4B0893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0E7D1-6B5A-43FD-951B-F5B09E96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9C4BC-6275-4A86-9D5D-8DC1B4F27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5260-7B11-40B7-8694-8943A602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FC9B-59CC-4E4C-9AF2-F27D6A2E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86B7-6952-4FDC-8C8E-1266A2EB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9812-39C4-4EC8-83C1-F0D18BB5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2853-CD15-4C7D-BDAA-F0069C2C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E4A6-D87C-40EB-998C-8B17D063FD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D666-E9AA-47E7-8495-2C84837820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F266-D5E1-4C21-BE92-E77F4051F32D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2789-CA99-40EA-A8AC-A7335CE6219A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ec.europa.eu/growth/sectors/cosmetics_en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2565360"/>
            <a:ext cx="83534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Verdana"/>
              </a:rPr>
              <a:t>EU Cosmetics Regulation</a:t>
            </a:r>
            <a:br>
              <a:rPr sz="3600"/>
            </a:br>
            <a:r>
              <a:rPr b="1" lang="en-US" sz="3600" spc="-1" strike="noStrike">
                <a:solidFill>
                  <a:srgbClr val="ffd624"/>
                </a:solidFill>
                <a:latin typeface="Verdana"/>
              </a:rPr>
              <a:t>and the hairdressing sector</a:t>
            </a: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Content Placeholder 2"/>
          <p:cNvSpPr/>
          <p:nvPr/>
        </p:nvSpPr>
        <p:spPr>
          <a:xfrm>
            <a:off x="539640" y="5372280"/>
            <a:ext cx="79218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alvatore D’Acu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ead of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ealth Technology and Cosme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DG Internal Market, Industry, Entrepreneurship and SMEs (DG GR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1187280" y="4149720"/>
            <a:ext cx="70567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marL="299880" indent="-299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624"/>
                </a:solidFill>
                <a:latin typeface="Verdana"/>
                <a:ea typeface="ＭＳ Ｐゴシック"/>
              </a:rPr>
              <a:t>SSDC on Personal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624"/>
                </a:solidFill>
                <a:latin typeface="Verdana"/>
                <a:ea typeface="ＭＳ Ｐゴシック"/>
              </a:rPr>
              <a:t>Working Group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624"/>
                </a:solidFill>
                <a:latin typeface="Verdana"/>
                <a:ea typeface="ＭＳ Ｐゴシック"/>
              </a:rPr>
              <a:t>18 September 2018, Bruss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0920" y="1268280"/>
            <a:ext cx="8929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487e"/>
                </a:solidFill>
                <a:latin typeface="Verdana"/>
              </a:rPr>
              <a:t>Application of Regulation (EU) 1223/2009                      (Cosmetics Regulation) to hairdressing sector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1280" y="2060640"/>
            <a:ext cx="8964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87e"/>
                </a:solidFill>
                <a:latin typeface="Arial"/>
              </a:rPr>
              <a:t>Cosmetics must be safe for both consumers and professionals (hairdressers)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87e"/>
                </a:solidFill>
                <a:latin typeface="Arial"/>
              </a:rPr>
              <a:t>Safety must be ensured by manufacturers and controlled by Member States Competent Authorities 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87e"/>
                </a:solidFill>
                <a:latin typeface="Arial"/>
              </a:rPr>
              <a:t>Safety assessment requirements consider the exposure to the product of </a:t>
            </a:r>
            <a:r>
              <a:rPr b="0" i="1" lang="en-US" sz="2200" spc="-1" strike="noStrike">
                <a:solidFill>
                  <a:srgbClr val="00487e"/>
                </a:solidFill>
                <a:latin typeface="Arial"/>
              </a:rPr>
              <a:t>‘the targeted (or exposed) population(s)’</a:t>
            </a:r>
            <a:r>
              <a:rPr b="0" lang="en-US" sz="2200" spc="-1" strike="noStrike">
                <a:solidFill>
                  <a:srgbClr val="00487e"/>
                </a:solidFill>
                <a:latin typeface="Arial"/>
              </a:rPr>
              <a:t>, i.e. hairdresser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87e"/>
                </a:solidFill>
                <a:latin typeface="Arial"/>
              </a:rPr>
              <a:t>Use instructions and warning statements must be printed on cosmetics for professional use </a:t>
            </a:r>
            <a:r>
              <a:rPr b="0" lang="en-US" sz="1800" spc="-1" strike="noStrike">
                <a:solidFill>
                  <a:srgbClr val="00487e"/>
                </a:solidFill>
                <a:latin typeface="Arial"/>
              </a:rPr>
              <a:t>(such as </a:t>
            </a:r>
            <a:r>
              <a:rPr b="0" i="1" lang="en-US" sz="1800" spc="-1" strike="noStrike">
                <a:solidFill>
                  <a:srgbClr val="00487e"/>
                </a:solidFill>
                <a:latin typeface="Arial"/>
              </a:rPr>
              <a:t>'wear suitable gloves‘ </a:t>
            </a:r>
            <a:r>
              <a:rPr b="0" lang="en-US" sz="1800" spc="-1" strike="noStrike">
                <a:solidFill>
                  <a:srgbClr val="00487e"/>
                </a:solidFill>
                <a:latin typeface="Arial"/>
              </a:rPr>
              <a:t>on hair dyes)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87e"/>
                </a:solidFill>
                <a:latin typeface="Arial"/>
              </a:rPr>
              <a:t>Cosmetic ingredients of concern for human health are subject to scientific risk assessment and restrictions for us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360" y="1123560"/>
            <a:ext cx="8929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487e"/>
                </a:solidFill>
                <a:latin typeface="Verdana"/>
              </a:rPr>
              <a:t>Risk assessment by the EU Scientific Committee on Consumer Safety (SCC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4000" y="2060640"/>
            <a:ext cx="8712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3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87e"/>
                </a:solidFill>
                <a:latin typeface="Arial"/>
              </a:rPr>
              <a:t>Identification of cosmetic ingredient of concern for human health (by MS/stakeholders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3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87e"/>
                </a:solidFill>
                <a:latin typeface="Arial"/>
              </a:rPr>
              <a:t>Public call for data on the safety of the ingredient launched by DG GROW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3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87e"/>
                </a:solidFill>
                <a:latin typeface="Arial"/>
              </a:rPr>
              <a:t>Preparation of a mandate by DG GROW (with the submitted safety data) to SCCS for risk assessmen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3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87e"/>
                </a:solidFill>
                <a:latin typeface="Arial"/>
              </a:rPr>
              <a:t>The mandate is published on the SCCS website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3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87e"/>
                </a:solidFill>
                <a:latin typeface="Arial"/>
              </a:rPr>
              <a:t>SCCS conducts the risk assessment of the ingredient (+/- 6 months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3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87e"/>
                </a:solidFill>
                <a:latin typeface="Arial"/>
              </a:rPr>
              <a:t>SCCS publishes a draft opinion open for public comments (+/- 8 weeks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3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87e"/>
                </a:solidFill>
                <a:latin typeface="Arial"/>
              </a:rPr>
              <a:t>SCCS finalizes the opinion and publishes it on its website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3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87e"/>
                </a:solidFill>
                <a:latin typeface="Arial"/>
              </a:rPr>
              <a:t>COM proposal to be discussed with stakeholders and voted by M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3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87e"/>
                </a:solidFill>
                <a:latin typeface="Arial"/>
              </a:rPr>
              <a:t>COM adopts the regulatory measure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640" y="1197000"/>
            <a:ext cx="8929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487e"/>
                </a:solidFill>
                <a:latin typeface="Verdana"/>
              </a:rPr>
              <a:t>Proposed Actions on Cosmetic Produc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39280" y="206028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120000"/>
              </a:lnSpc>
              <a:spcAft>
                <a:spcPts val="2401"/>
              </a:spcAft>
              <a:buClr>
                <a:srgbClr val="003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87e"/>
                </a:solidFill>
                <a:latin typeface="Arial"/>
              </a:rPr>
              <a:t>Invite Social Partners (SP) to a meeting of the Working Group on Cosmetic Products (December 2018) to present their concerns to Member State Competent Authorities and stakeholders both on new regulatory measures and on market surveillance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57120" indent="-357120">
              <a:lnSpc>
                <a:spcPct val="120000"/>
              </a:lnSpc>
              <a:spcAft>
                <a:spcPts val="2401"/>
              </a:spcAft>
              <a:buClr>
                <a:srgbClr val="003192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87e"/>
                </a:solidFill>
                <a:latin typeface="Arial"/>
              </a:rPr>
              <a:t>Involve SP in the work of the SCCS via periodic SCCS newsletters published (twice a year) by DG SANTE on its website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57120" indent="-357120">
              <a:lnSpc>
                <a:spcPct val="120000"/>
              </a:lnSpc>
              <a:spcAft>
                <a:spcPts val="2401"/>
              </a:spcAft>
              <a:buClr>
                <a:srgbClr val="00319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87e"/>
                </a:solidFill>
                <a:latin typeface="Arial"/>
              </a:rPr>
              <a:t>A workshop covering also the application of the EU Cosmetics Regulation on the safe use of cosmetic products by hairdressers, with a specific focus on the risk assessment procedures followed by the SCCS and the various opportunities for interested stakeholders (incl. SP) to contribute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360" y="1267920"/>
            <a:ext cx="8929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87e"/>
                </a:solidFill>
                <a:latin typeface="Verdana"/>
              </a:rPr>
              <a:t>Useful link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24000" y="2349360"/>
            <a:ext cx="849600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Aft>
                <a:spcPts val="2401"/>
              </a:spcAft>
              <a:buClr>
                <a:srgbClr val="00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87e"/>
                </a:solidFill>
                <a:latin typeface="Arial"/>
              </a:rPr>
              <a:t>DG GROW Cosmetics website: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</a:t>
            </a:r>
            <a:r>
              <a:rPr b="0" lang="en-GB" sz="2000" spc="-1" strike="noStrike">
                <a:solidFill>
                  <a:srgbClr val="00487e"/>
                </a:solidFill>
                <a:latin typeface="Arial"/>
              </a:rPr>
              <a:t>ec.europa.eu/growth/sectors/cosmetics_en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2401"/>
              </a:spcAft>
              <a:buClr>
                <a:srgbClr val="00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87e"/>
                </a:solidFill>
                <a:latin typeface="Arial"/>
              </a:rPr>
              <a:t>Scientific Committee on Consumer Safety website: https://ec.europa.eu/health/scientific_committees/consumer_safety_e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2401"/>
              </a:spcAft>
              <a:buClr>
                <a:srgbClr val="00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87e"/>
                </a:solidFill>
                <a:latin typeface="Arial"/>
              </a:rPr>
              <a:t>DG GROW contact:                                                                                               GROW-COSMETICS-AND-MEDICAL-DEVICES@ec.europa.eu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4:21:50Z</dcterms:created>
  <dc:creator>dummy</dc:creator>
  <dc:description/>
  <dc:language>en-US</dc:language>
  <cp:lastModifiedBy>MOKRY Roman (GROW)</cp:lastModifiedBy>
  <cp:lastPrinted>2018-09-12T14:10:17Z</cp:lastPrinted>
  <dcterms:modified xsi:type="dcterms:W3CDTF">2018-09-13T16:59:08Z</dcterms:modified>
  <cp:revision>159</cp:revision>
  <dc:subject/>
  <dc:title>Health &amp; Consumers Directorate General</dc:title>
</cp:coreProperties>
</file>