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D798-05C4-4A17-9997-5A7B70B39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FA58-1277-4C1A-A304-683141E71D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147-1BF7-448A-9F12-6101F0E7D2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99,8 % SME in the EU, 92 % are micro enterprises with less than 10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t is not necessary, because we do not have any major probl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main reason given for not carrying out a risk assessment – especially in very smal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e necessary expertise is lack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second most important reason for not carrying out a risk assessment – especially in very smal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establishments rely on external contractors to carry out their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some countries nearly all establishments outsource risk assessment whereas in others nearly all do them in-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lack of technical support or guid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as a ‘major difficulty’ in dealing with health and safety by a quarter of all establishments with 10-19 employ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87A-0C7B-4D1A-8506-37C4F1357C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7C41-D04B-4E5E-818E-F4AF610994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0C1-C9CD-437E-BA32-AB45324C69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056-7360-41AD-814C-660E035DF1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D308-7CAC-4EAE-8118-60F34EE68D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A63-AC93-4FB9-B63F-06EEF7C60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338-13B5-441F-A8E1-00B688C0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731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000" y="3596040"/>
            <a:ext cx="731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8F3-22D4-49CD-A105-0A4AD110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0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236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CC9-83CA-45C8-8412-FB57CC7D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8840" y="116820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1680" y="116820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000" y="359604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48840" y="359604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21680" y="359604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0BE-C991-4E1C-92E9-9995C610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000" y="1168200"/>
            <a:ext cx="7313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F9E-DA89-4612-AD32-F6D2456C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731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409-8583-4B41-B7A7-7CD80C31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949-2086-40C5-8CE7-CF29AF87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EA7-A1FE-48F5-A652-861B175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212400"/>
            <a:ext cx="75499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E75-82B1-4636-8F2F-A738C2F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0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E6A-4501-410F-B68C-8F073EC2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236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B64-D219-4773-A6AC-02903D1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000" y="3596040"/>
            <a:ext cx="731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27F-06A1-4A49-9BA2-2BDFBA7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110323_OiRA_PPT_backround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6000" y="1168200"/>
            <a:ext cx="731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buClr>
                <a:srgbClr val="9999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76000" y="5932440"/>
            <a:ext cx="190476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776320" y="59432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984640" y="59432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EE8B-AEFD-4CF0-81D2-D7F1EDD3C6A7}" type="slidenum">
              <a:rPr b="0" lang="en-GB" sz="10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iraproject.eu/available-tools" TargetMode="External"/><Relationship Id="rId2" Type="http://schemas.openxmlformats.org/officeDocument/2006/relationships/hyperlink" Target="http://www.oiraproject.eu/available-tool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0323_OiRA_PPT_backroun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93560" y="3168720"/>
            <a:ext cx="753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Online interactive Risk Assessment  in the hairdressing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pdate on the too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ulia Flint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PPT_Curve_white_transparent"/>
          <p:cNvPicPr/>
          <p:nvPr/>
        </p:nvPicPr>
        <p:blipFill>
          <a:blip r:embed="rId2"/>
          <a:stretch/>
        </p:blipFill>
        <p:spPr>
          <a:xfrm>
            <a:off x="8205840" y="0"/>
            <a:ext cx="938160" cy="685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782960" cy="31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0" t="5080" r="0" b="0"/>
          <a:stretch/>
        </p:blipFill>
        <p:spPr>
          <a:xfrm>
            <a:off x="3708360" y="0"/>
            <a:ext cx="3892680" cy="316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rcRect l="0" t="3732" r="0" b="0"/>
          <a:stretch/>
        </p:blipFill>
        <p:spPr>
          <a:xfrm>
            <a:off x="7451640" y="0"/>
            <a:ext cx="1692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12400"/>
            <a:ext cx="84247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iRA tools for the hairdressing secto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413000"/>
            <a:ext cx="691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Published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Cypru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Belgium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Greec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ain (Catalonia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ave a look at: </a:t>
            </a:r>
            <a:r>
              <a:rPr b="0" lang="en-US" sz="1800" spc="-1" strike="noStrike" u="sng">
                <a:solidFill>
                  <a:srgbClr val="0a9dd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a9dd0"/>
                </a:solidFill>
                <a:uFillTx/>
                <a:latin typeface="Arial"/>
                <a:hlinkClick r:id="rId2"/>
              </a:rPr>
              <a:t>www.oiraproject.eu/available-tools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U hairdressers OiRA tool – developm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99"/>
                </a:solidFill>
                <a:uFillTx/>
                <a:latin typeface="Arial"/>
              </a:rPr>
              <a:t>Steps of develop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Decision taken in SSD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EU-OSHA subcontracted “Prevent “ from Belgium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Prevent was involved in the development of the Belgia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Development of the OiRA EU draf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evision of the Belgium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dding EU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Adding information based on the framework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First draft was ready end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Feedback from the OiRA working group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ainer Roehr &amp; Francois Lau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Working group meeting yesterday (13.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Discussion on general approach and certai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U hairdressers OiRA tool - cont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99"/>
                </a:solidFill>
                <a:uFillTx/>
                <a:latin typeface="Arial"/>
              </a:rPr>
              <a:t>Modul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Hairdressing cosmetic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torage, products, mixing st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Skin protec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ubmodule gloves: single use gloves for colouring and washing, no jeweller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ubmodule skin care: separated area for hand hygiene, pH-neutral cleans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Layout and maintenance of the sal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est area, non-slip floor, no smoking, fire extinguish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Furniture &amp; work postur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Height adjustable chairs, hair wash installa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U hairdressers OiRA tool - cont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99"/>
                </a:solidFill>
                <a:uFillTx/>
                <a:latin typeface="Arial"/>
              </a:rPr>
              <a:t>Modul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6. Hairdressing equipment and clothing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Hairdryers, trolleys, cloth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7. Work organisa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Working time, training, employee involve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8. Personnel and preven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First aid, work related health complaints, precautionary measures for criminal offences and robber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iRA working group decisio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isk assessment items are based on EU legislation &amp; the hairdresser’ s agreemen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hrasing is kept as close as possible to the text in the agreemen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For solutions: If there is no EU legislation or information in the agreemen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’s possible to include information phrased as a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re is sufficient space around hair wash installations and hairdressing chairs to work comfortably and saf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andheld hairdryers are as light and as quie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chedul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12800" y="1413000"/>
            <a:ext cx="71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raft end April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from the working group by end May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hanges done until end June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 of the tool in the SSD 2. July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launch of the tool?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llow up for national tool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2800" y="1413000"/>
            <a:ext cx="71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If social partners are interested in implementing the tool in their Member State, EU-OSHA has possibilities to support you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pproaches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partners from MS that are already OiRA partners and don’t have a hairdressers tool yet (France, Latvia, Lithuania, Czech Republic, Iceland, Malta, Italy, Slovakia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partners from MS that are no OiRA partners ye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have to contact the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out in how far they want to be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way of dealing with the translation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national version of th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ank you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12800" y="1752480"/>
            <a:ext cx="71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For further information visi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http://www.oiraproject.eu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Or contac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Julia Flintrop </a:t>
            </a:r>
            <a:r>
              <a:rPr b="1" lang="de-DE" sz="1800" spc="-1" strike="noStrike">
                <a:solidFill>
                  <a:srgbClr val="003399"/>
                </a:solidFill>
                <a:latin typeface="Arial"/>
              </a:rPr>
              <a:t>flintrop@osha.europa.eu</a:t>
            </a: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renzo Munar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munar@osha.europa.eu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2:14:07Z</dcterms:created>
  <dc:creator>MAESTROXP</dc:creator>
  <dc:description/>
  <dc:language>en-US</dc:language>
  <cp:lastModifiedBy>user1</cp:lastModifiedBy>
  <cp:lastPrinted>2010-11-23T11:33:58Z</cp:lastPrinted>
  <dcterms:modified xsi:type="dcterms:W3CDTF">2014-03-14T08:39:38Z</dcterms:modified>
  <cp:revision>436</cp:revision>
  <dc:subject/>
  <dc:title>Slide 1</dc:title>
</cp:coreProperties>
</file>