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7D71-EE65-43B0-B6B6-058A4236C6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9A1A-9DF7-4006-8C32-264BFCDF8A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711-2A09-4D7B-951C-E403B1A28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99,8 % SME in the EU, 92 % are micro enterprises with less than 10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t is not necessary, because we do not have any major probl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main reason given for not carrying out a risk assessment – especially in very smal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e necessary expertise is lack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second most important reason for not carrying out a risk assessment – especially in very smal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establishments rely on external contractors to carry out their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some countries nearly all establishments outsource risk assessment whereas in others nearly all do them in-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lack of technical support or guid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as a ‘major difficulty’ in dealing with health and safety by a quarter of all establishments with 10-19 employ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2EE-7EE6-430A-A353-E12A830ABB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EA8-5132-4989-9A78-EDFA09A4A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CE45-D1FB-49D0-8322-123AF0F16D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D7FB-60E3-4553-BDAE-9E2BC6D41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 RA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managers of these firms are not necessarily acquainted with the legislation and the obligation it entails (to assess the r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often they do not have the time not the means, especially human resources, to perform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ing employment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he risk inherent to a sector can be clearly identified, the enterprises targeted are easier to reach via the trade federations in par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people in the same sector “speak the same language”. So, action can be better targeted, more precise and more sector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appropriate: neither too complicated nor too expensive (offer support for free or at a minimal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Making it practical and relevant. The tool should be suitable and meet enterprises´ expectations. It is important to test the tool among the end-users before launching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 Keeping the cost down/offering tools for free. It is by proposing actions that are inexpensive, easily accessible and with very tangible content that OSH procedures (like                          risk assessment) can be initiated in M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lving trade unions and trade associ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often this way that information reaches the S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ir involvement can add credibility to the project in the eyes of the e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mproving occupational safety and health in SMEs: examples of effective assista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European Agency for Safety and Health, Luxembourg: Office for Official Publications of the European Communiti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4F9-F316-49F9-9BAA-5219BB0A8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02F-A19A-4293-8487-5525330B4C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2C9-1482-4721-8C3E-8E96ABD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000" y="359604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DBA-12BE-46A6-9E71-5EB3152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236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370-E233-474C-81A6-2CD2750C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884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1680" y="116820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00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4884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21680" y="3596040"/>
            <a:ext cx="2354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DB5-7433-417B-9FC8-09D12B7B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FA8-F4E1-4308-92CB-290446F5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A4A-C09A-4873-ADBE-06BC7EF1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67A-3A5E-46DB-A5C0-E231EB6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F78-D92E-44A7-931B-851B65E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212400"/>
            <a:ext cx="75499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931-66BF-4030-969A-02C7F720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D7A-EB4A-4C85-AB7B-D8BC7B5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23600" y="359604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B1F-6200-4DC3-A37B-8D793E1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23600" y="1168200"/>
            <a:ext cx="3568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000" y="3596040"/>
            <a:ext cx="731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6C5-A7DC-4FEF-8D3A-D57EAAA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110323_OiRA_PPT_backround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6000" y="1168200"/>
            <a:ext cx="731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buClr>
                <a:srgbClr val="9999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76000" y="5932440"/>
            <a:ext cx="190476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776320" y="59432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984640" y="59432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F54-60CC-471B-BD42-CC5B7407E5EC}" type="slidenum">
              <a:rPr b="0" lang="en-GB" sz="10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iraproject.eu/available-tools" TargetMode="External"/><Relationship Id="rId2" Type="http://schemas.openxmlformats.org/officeDocument/2006/relationships/hyperlink" Target="http://www.oiraproject.eu/available-tool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0323_OiRA_PPT_backrou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93560" y="3168720"/>
            <a:ext cx="75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Online interactive Risk Assessment  in the hairdressing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pdate on the too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ulia Flint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PPT_Curve_white_transparent"/>
          <p:cNvPicPr/>
          <p:nvPr/>
        </p:nvPicPr>
        <p:blipFill>
          <a:blip r:embed="rId2"/>
          <a:stretch/>
        </p:blipFill>
        <p:spPr>
          <a:xfrm>
            <a:off x="8205840" y="0"/>
            <a:ext cx="938160" cy="685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78296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0" t="5080" r="0" b="0"/>
          <a:stretch/>
        </p:blipFill>
        <p:spPr>
          <a:xfrm>
            <a:off x="3708360" y="0"/>
            <a:ext cx="3892680" cy="31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rcRect l="0" t="3732" r="0" b="0"/>
          <a:stretch/>
        </p:blipFill>
        <p:spPr>
          <a:xfrm>
            <a:off x="7451640" y="0"/>
            <a:ext cx="169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12400"/>
            <a:ext cx="84247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iRA tools for the hairdressing secto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413000"/>
            <a:ext cx="691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Published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Cypru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Belgium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Arial"/>
              </a:rPr>
              <a:t>Greec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ain (Catalonia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5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ave a look at: </a:t>
            </a:r>
            <a:r>
              <a:rPr b="0" lang="en-US" sz="1800" spc="-1" strike="noStrike" u="sng">
                <a:solidFill>
                  <a:srgbClr val="0a9dd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a9dd0"/>
                </a:solidFill>
                <a:uFillTx/>
                <a:latin typeface="Arial"/>
                <a:hlinkClick r:id="rId2"/>
              </a:rPr>
              <a:t>www.oiraproject.eu/available-tool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– developm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99"/>
                </a:solidFill>
                <a:uFillTx/>
                <a:latin typeface="Arial"/>
              </a:rPr>
              <a:t>Steps of develop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Decision taken in SSD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EU-OSHA subcontracted “Prevent “ from Belgium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Prevent was involved in the development of the Belgia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Development of the OiRA EU draf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vision of the Belgium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dding EU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Adding information based on the framework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irst draft was ready end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Feedback from the OiRA working gro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ainer Roehr &amp; Francois Lau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Working group meeting yesterday (13.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56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Discussion on general approach and certai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-1724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- cont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99"/>
                </a:solidFill>
                <a:uFillTx/>
                <a:latin typeface="Arial"/>
              </a:rPr>
              <a:t>Modul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Hairdressing cosmetic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torage, products, mixing st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Skin protec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ubmodule gloves: single use gloves for colouring and washing, no jeweller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ubmodule skin care: separated area for hand hygiene, pH-neutral cleans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Layout and maintenance of the sal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st area, non-slip floor, no smoking, fire extinguish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529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Furniture &amp; work postur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Height adjustable chairs, hair wash installa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 hairdressers OiRA tool - cont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99"/>
                </a:solidFill>
                <a:uFillTx/>
                <a:latin typeface="Arial"/>
              </a:rPr>
              <a:t>Modul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6. Hairdressing equipment and clothing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Hairdryers, trolleys, cloth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7. Work organ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Working time, training, employee involv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Arial"/>
              </a:rPr>
              <a:t>8. Personnel and preven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irst aid, work related health complaints, precautionary measures for criminal offences and robber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576360" y="1168560"/>
            <a:ext cx="731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212400"/>
            <a:ext cx="75502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iRA working group decisio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2800" y="1268280"/>
            <a:ext cx="7176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isk assessment items are based on EU legislation &amp; the hairdresser’ s agre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hrasing is kept as close as possible to the text in the agre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For solutions: If there is no EU legislation or information in the agreemen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’s possible to include information phrased as a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re is sufficient space around hair wash installations and hairdressing chairs to work comfortably and saf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andheld hairdryers are as light and as quie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3440" indent="-285840">
              <a:lnSpc>
                <a:spcPct val="90000"/>
              </a:lnSpc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12800" y="141300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raft end April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from the working group by end May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hanges done until end June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of the tool in the SSD 2. July 20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launch of the tool?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llow up for national too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2800" y="141300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If social partners are interested in implementing the tool in their Member State, EU-OSHA has possibilities to support you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artners from MS that are already OiRA partners and don’t have a hairdressers tool yet (France, Latvia, Lithuania, Czech Republic, Iceland, Malta, Italy, Slovakia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artners from MS that are no OiRA partners ye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have to contact the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out in how far they want to b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way of dealing with the translation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national version of th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185760">
              <a:spcBef>
                <a:spcPts val="675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212400"/>
            <a:ext cx="754992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ank you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2800" y="1752480"/>
            <a:ext cx="71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For further information visi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http://www.oiraproject.eu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Or contact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Julia Flintrop </a:t>
            </a: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flintrop@osha.europa.eu</a:t>
            </a: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renzo Munar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munar@osha.europa.eu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2:14:07Z</dcterms:created>
  <dc:creator>MAESTROXP</dc:creator>
  <dc:description/>
  <dc:language>en-US</dc:language>
  <cp:lastModifiedBy>user1</cp:lastModifiedBy>
  <cp:lastPrinted>2010-11-23T11:33:58Z</cp:lastPrinted>
  <dcterms:modified xsi:type="dcterms:W3CDTF">2014-03-14T08:39:38Z</dcterms:modified>
  <cp:revision>436</cp:revision>
  <dc:subject/>
  <dc:title>Slide 1</dc:title>
</cp:coreProperties>
</file>