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E5A-C73B-4A1D-BE72-62CA24F3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730-5972-4533-80E0-F1A05D50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234BB-4CEA-4B97-A21F-21DFC114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654E7-5C8A-408E-9475-B8F01BED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3CCB3-23AD-482D-9E76-8132A3EA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2994A-DA6F-4DD8-B26C-8C4F4A5E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AE165-24C5-400F-8EE0-F0EE4147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290E0-0C0C-4DCA-8896-4BB86EE1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ECBAB-4BEF-42CC-A378-71B602E4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45F99-062A-49BF-9B8D-3060B349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5DAE1-49B0-46FF-9277-A5994133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18CD3-1CCB-4D18-AEE1-6D1E6B96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D92-3672-4566-B737-8C76E332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6F456-C557-4252-9146-B9EA8C4C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6DF5D-A16A-4C9B-80A1-F416803B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E7426-AC05-4BE8-99C0-7A1BD362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1F391-C6DD-4E6B-8157-2400F060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70E0E-D63F-4326-A00D-418DFAEB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BE32D-0630-4A0E-9ECB-1858C8AC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0FA8D-DD74-4E6D-9343-D2E2F346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BD7C5-B28E-4068-BA2E-4B18D36A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CAE62-516B-416C-A613-D5B98E04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8217B-5B65-4CD9-968B-DF4D536C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2A0-F189-4146-8A00-6EEEF514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37D07-60DC-4CF5-8672-EB15457A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922BB-4FD0-4AD4-B762-49BDBF78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2584B-0D69-41B6-9DF2-DE156436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7E873-D664-4F42-B1C1-0B7861B6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C47BF-399B-4115-9B89-C95D9172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07E27-007F-4B4B-9B96-92830D5E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87A7F-FA00-4E97-81A6-8145E23C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EF00E-D052-41A8-9D8C-7C509883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CCB79-CB05-4ED1-826E-66545D26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908FA-8678-433A-89E3-030C296E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D184-AEBC-46AE-AED1-67469419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F175C-3004-4064-8079-1B8355D4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6C334-8A6E-4E0E-987C-A0AE33C7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CD977-5C64-463B-BECF-A992A34C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E69CF-04B8-404E-B624-E3286E6C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3D73D-1A6A-4E7D-A3A8-1FE8DD0C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0FECA-3402-4D0C-A7AD-752B6178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6497C-99CE-4E56-B0F7-BCE63464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1DB02-16B8-4E54-87F7-013A3989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6F7EA-BAAE-43FC-A27C-A18666A1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3A8B2-0539-4AF2-9D05-28E8BCB0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4025-F1F1-4763-A17B-9620EC38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913E5-0E6B-4B95-B54B-537AF23B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15576-B7BF-4173-AE34-19E891C1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0702A-E212-47CF-A37A-5DCC1361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EE300-2A70-468F-ACBD-773AB0F7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7CFD1-DC8A-4AEB-91F8-AAA51473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3A17-F3ED-41D9-8753-B5AC5708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BE8A-37EC-42D7-944D-2E6483E1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9F62-7BD5-495A-BD30-B26AA6D3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7E9D-77C9-4057-9886-BF7933F0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E34D-8407-4C70-944B-A92A215B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A83-4111-4BAA-917C-D623291D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CDE3-E4ED-4E45-AD8A-CAA2CC37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43A1-6186-4D8A-B228-5BC0F981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5624-3EA1-47F0-AFCD-21F83C9B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2649-0CD0-46BB-82D1-62D3E452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F4AE-6F46-4015-96A7-0DE2AA65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BA73A-6258-4547-A0AE-CB593B19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F69E9-D039-4518-A903-0935C26B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DD8C1-3530-4DDC-B129-5320E5BE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AEAAF-E02F-46C1-857D-73D402F2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01C5-9E20-4130-B87C-E5FEB9E7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B07-679F-4BAF-A5AF-B5A5FA7D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5A35D-20C1-4563-9F06-EF16813A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24F7-2C43-4ABC-9EE9-34916DB8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F4518-A56D-4CF0-A0D8-19DD63D5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3278-2B6D-449A-8AAF-526CBB4E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B083F-0E8D-40AE-A761-95AA9812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C2FA8-66E5-42F8-80D0-0A0688B1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0BD2-F885-4214-AEDD-15E9A8A8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150DF-5EB6-4BF2-A5EE-3D3E0F45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62464-67A1-4209-983E-BC777727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86F23-B7E1-4F57-B921-35D6A880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426-0398-4632-8CFF-A57D8281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9FFA0-A45A-498C-90DB-57BDB354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49F4E-3C58-4C9A-A8E8-DD93CD2D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16BE8-9785-406E-97DC-541BBB1E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FB66B-8D8F-4857-BE2C-81814A4D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112D7-CBEE-4109-A16B-488833AD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2B2E7-7987-4C62-BD16-A615FEAF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CA4FB-5E10-4D61-810E-41F8D776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F3D62-CAD6-4C7D-92B3-9B210685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CA87B-F8D9-4FFF-ADEB-9CB7E2F1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D9E00-FC34-46C4-B2B7-6F5AAA30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51A-37DC-4B29-B6CD-798011BE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525E2-7298-4A29-89B7-CB623F59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7B67F-2DB8-426C-8C06-08474872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ED7F9-43FA-4A2F-8CEF-EF64C5D5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9900F-59EA-4F67-972B-DAD71929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B0890-2092-43A9-9407-75D95341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A005B-F89D-4851-B88E-CA88EDE5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3B49A-A85E-401F-9505-91F4C752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D38CC-1BA0-4907-B3B2-83F655C5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99EE3-B5EE-4FE0-AA8A-F9FAE4A1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92870-E8A4-42B7-9CA0-54196F5C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B94-728E-463C-8D30-154B3037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41C53-8D05-4304-A96D-E8017029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3A325-1E46-4707-A658-212CD84C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14AB4-8022-402D-8F11-18E42AA6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F1F5A-70D6-49D1-9E54-383E4CCB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09816-A457-47CD-8B61-18B66521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B934D-F2FD-4AAA-8555-45A87BEC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EC5F6-4F3D-4312-9284-E7996CB5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A4EBD-1523-47C9-A47E-68E3AB60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97D61-07D6-405E-BDF3-F82D4155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A010A-5593-4B6D-909B-05B21B05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79A-51FC-4E5A-A9BD-BF07420A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AC531-F0BE-4BDE-A5E5-2161AD68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D12BA-66FD-4626-9824-6FA6603B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758F8-BB38-4BCA-952D-AEDE0A5A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31EA0-6CF9-4DCD-A137-8A5CFC3E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1AB96-3AF7-4230-A088-FEE4934E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D98A9-8701-40A3-9844-FD476D44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29BFF-B7C2-4EDC-81C9-E77B9EC6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37E4B-B458-4A5C-8063-BB3A6DE5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362A4-6416-435A-878B-AC0D0A4B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8651A-D4C9-4BB5-821A-910DEFA3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DCB-B0AF-4EC5-ACEF-68C3E20D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5FCEE-0CB4-42FE-B74E-386FF0AC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CC516-5472-4E57-95EB-6DBF0926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0CD73-40D6-48DA-B702-9B2AF687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0C43D-3F65-46C2-AC02-DF433D07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A82F0-A6F1-4E04-A728-1D66E7AA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9FDA0-4CFD-492F-B70F-600271A7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4E1AE-B41B-4F72-8994-3DFA6282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DDC36-AE85-4695-AAA3-3C0D423D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6168F-E781-4263-8BE3-647AB560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0594F-8947-4B32-B133-34F9DC2A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508B-0539-4A9C-9DB7-3F9B1034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E0930-6B5C-4DE3-84A9-30EB793D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F963D-D688-4043-A546-9AA82EEB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8E2FC-48C5-47A5-8B04-9F3F2FF9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7B79E-F280-4743-A297-30D9B2FE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418DF-D954-406D-9C4A-539BA99A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5407B-A397-4BA0-9A71-F5A6EA32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DBA56-B810-417C-B847-5FBCB3C2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2B6BB-EDDD-4818-9096-F74EE0CA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04833-D554-4475-8378-948F2EFF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E3370-E63E-4FD4-86A1-6A598444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7C14-4A36-4547-B231-E398A130ADA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B7F6-0EFA-4317-A8DD-AF69DCF4032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840B-3EB4-4466-888B-CEE2BFFB954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E888-B749-40DB-B724-359EAFADE38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0643-20A3-400D-87D6-D863F7F0AF5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8302-6A1F-45BA-9259-E58031BDD78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826D-450C-44D7-A7C6-BEE27B8C513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FC38-426E-4463-BF2E-028F38AC4A5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2D25-3A6C-40C0-91EF-7A489684A41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B31C-0117-42F9-96CF-B6EEE94AEA2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4480-6EFE-4660-941C-7492D4E33DC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B376-D3BC-48DC-A054-6893FF8C208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873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nl-BE" sz="4400" spc="-1" strike="noStrike">
                <a:solidFill>
                  <a:srgbClr val="000000"/>
                </a:solidFill>
                <a:latin typeface="Times New Roman"/>
              </a:rPr>
              <a:t>Op-één-haar-na’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85800" y="1980720"/>
            <a:ext cx="77724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SD – WORKING GROUP MEETING 13 OCT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RANSNATIONAL ESF PROJECT (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4969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FINAL REPORT PHASE 1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(January - March 20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Promoter: UBK/UCB vzw-as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Author: Miet Verh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2"/>
          <p:cNvSpPr/>
          <p:nvPr/>
        </p:nvSpPr>
        <p:spPr>
          <a:xfrm>
            <a:off x="0" y="549360"/>
            <a:ext cx="916632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A  CLOSE  SHAVE’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INDIVIDUAL COUNTR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Denmark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- Polan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Croatia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- Irelan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Germany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- Malta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France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- Spai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Austria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- Cypru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The Netherlands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- Finlan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Switzerland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- Italy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Latvia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- Swede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Great Britai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8" name="Rechthoek 1"/>
          <p:cNvSpPr/>
          <p:nvPr/>
        </p:nvSpPr>
        <p:spPr>
          <a:xfrm>
            <a:off x="755640" y="1916280"/>
            <a:ext cx="7561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9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FEW EX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4" name="Rechthoek 1"/>
          <p:cNvSpPr/>
          <p:nvPr/>
        </p:nvSpPr>
        <p:spPr>
          <a:xfrm>
            <a:off x="755640" y="1916280"/>
            <a:ext cx="7561440" cy="53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ＭＳ Ｐゴシック"/>
              </a:rPr>
              <a:t>EUROPEA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Uni Europa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reation of an app for smartphon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ＭＳ Ｐゴシック"/>
              </a:rPr>
              <a:t>INDIVIDUAL MEMBER STATE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Belgium: 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Risktrainer programm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,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SF project ‘Practicability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’ (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ctor-specific hardcopy manual with OIRA tool, campaign to generate awareness about good pregnancy policy, work differentiation tool, balance between private and professional life), etc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enmark: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telephone hotline for hairdressers, Health and Safety training programmes: taught and trained at school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roatia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H&amp;S: included in school curriculum, free workshops, e.g. ‘Your hands are the most important tool’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093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55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FEW EX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0" name="Rechthoek 1"/>
          <p:cNvSpPr/>
          <p:nvPr/>
        </p:nvSpPr>
        <p:spPr>
          <a:xfrm>
            <a:off x="755640" y="1916280"/>
            <a:ext cx="7561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ＭＳ Ｐゴシック"/>
              </a:rPr>
              <a:t>INDIVIDUAL MEMBER STATE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Germany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BGW (insurance company): special training centre for hairdressers: Studio 78 (Bochem), Hamburg: website and free online database ‘KomNet Arbeitsschutz’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rance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ixtilinear-ErgoCoiffu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aining, Document Unique training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ustria: ‘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afe Hair goes to school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’,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tart!klar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 Netherlands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hort- and long-term training programmes Kapperspoli, digital test hand eczema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witzerland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aining for employers (4 employees) about safety manua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093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1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FEW EX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Rechthoek 1"/>
          <p:cNvSpPr/>
          <p:nvPr/>
        </p:nvSpPr>
        <p:spPr>
          <a:xfrm>
            <a:off x="755640" y="1916280"/>
            <a:ext cx="756144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000066"/>
                </a:solidFill>
                <a:uFillTx/>
                <a:latin typeface="Arial"/>
                <a:ea typeface="ＭＳ Ｐゴシック"/>
              </a:rPr>
              <a:t>INDIVIDUAL MEMBER STAT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atvia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job training H&amp;S for schools, manual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Great Britain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hairdressing website Health &amp; Safety Executive (HSE), 'Bad Hand Day?’ campaign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oland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Vocational training – Health and Safety for starters, employers, employees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reland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aking Care of Business, BeSMART.ie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lta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spection campaign for the hairdressing sector, etc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pain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ational inquiry into working conditions in the hairdressing sector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yprus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ctions in relation to first OIRA tool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093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7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FEW EX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1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2" name="Rechthoek 1"/>
          <p:cNvSpPr/>
          <p:nvPr/>
        </p:nvSpPr>
        <p:spPr>
          <a:xfrm>
            <a:off x="755640" y="1916280"/>
            <a:ext cx="756144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ＭＳ Ｐゴシック"/>
              </a:rPr>
              <a:t>INDIVIDUAL MEMBER STAT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inland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valuation plan ‘The ergonomic workplace method’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taly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nti-smoking campaign (flyers, posters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weden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ystematic environmental (SAM) Project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093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3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7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8" name="Rechthoek 1"/>
          <p:cNvSpPr/>
          <p:nvPr/>
        </p:nvSpPr>
        <p:spPr>
          <a:xfrm>
            <a:off x="755640" y="1916280"/>
            <a:ext cx="756144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ncreasing efforts being made in different countrie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2232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ovision of inform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2232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ool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2232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articipative and interactive initiativ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2232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wareness generating campaig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ost important focus: prevention for and protection of the ski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ore extrinsic than intrinsic motiv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2232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sequence: importance of integration into the learning proces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2232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Learning process: practice-oriented, real life, dialogue, refle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2232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9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4" name="Rechthoek 1"/>
          <p:cNvSpPr/>
          <p:nvPr/>
        </p:nvSpPr>
        <p:spPr>
          <a:xfrm>
            <a:off x="755640" y="1916280"/>
            <a:ext cx="75614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mportant to develop further preventive strategies for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eginner hairdresser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airdressing employe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mployer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ector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Labour marke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5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FORMATION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755640" y="1628640"/>
            <a:ext cx="77770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UBK/UCB vzw-asb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Miet Verhamm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Coordinator European Policy and European Project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Vijfwindgatenstraat 21 F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9000 Ghen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miet.verhamme@coiffure.org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0032 471 77 07 87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90" name="Picture 12" descr="logobalkje met ESF-tekst[1]"/>
          <p:cNvPicPr/>
          <p:nvPr/>
        </p:nvPicPr>
        <p:blipFill>
          <a:blip r:embed="rId1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  <p:pic>
        <p:nvPicPr>
          <p:cNvPr id="591" name="Afbeelding 1" descr=""/>
          <p:cNvPicPr/>
          <p:nvPr/>
        </p:nvPicPr>
        <p:blipFill>
          <a:blip r:embed="rId2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54936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POINTS TO DISCU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0" name="Rechthoek 1"/>
          <p:cNvSpPr/>
          <p:nvPr/>
        </p:nvSpPr>
        <p:spPr>
          <a:xfrm>
            <a:off x="755640" y="1916280"/>
            <a:ext cx="7561440" cy="56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otive behind the project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ckground to the projec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ethod desk research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blem of health and safety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isks linked to the workpla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Occupational illnesses and diseas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cope of the research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ndividual countri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cussing a few exampl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01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MOTIVE BEHIND THE PROJE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6" name="Rechthoek 1"/>
          <p:cNvSpPr/>
          <p:nvPr/>
        </p:nvSpPr>
        <p:spPr>
          <a:xfrm>
            <a:off x="755640" y="1916280"/>
            <a:ext cx="756144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62c6a"/>
                </a:solidFill>
                <a:latin typeface="Arial"/>
              </a:rPr>
              <a:t>Danish research</a:t>
            </a: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Anne Bregnhoj, </a:t>
            </a:r>
            <a:r>
              <a:rPr b="0" i="1" lang="en-GB" sz="1800" spc="-1" strike="noStrike">
                <a:solidFill>
                  <a:srgbClr val="062c6a"/>
                </a:solidFill>
                <a:latin typeface="Arial"/>
              </a:rPr>
              <a:t>Prevention of hand eczema among Danish hairdressing apprentices, </a:t>
            </a: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(2011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62c6a"/>
                </a:solidFill>
                <a:latin typeface="Arial"/>
              </a:rPr>
              <a:t>Croatian research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Marija Kujundžić Brkulj, Jelena Macan</a:t>
            </a:r>
            <a:r>
              <a:rPr b="0" i="1" lang="en-GB" sz="1800" spc="-1" strike="noStrike">
                <a:solidFill>
                  <a:srgbClr val="062c6a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Skin Protection at Work in Croatian Hairdressers - </a:t>
            </a:r>
            <a:r>
              <a:rPr b="0" i="1" lang="en-GB" sz="1800" spc="-1" strike="noStrike">
                <a:solidFill>
                  <a:srgbClr val="062c6a"/>
                </a:solidFill>
                <a:latin typeface="Arial"/>
              </a:rPr>
              <a:t>Archives of Industrial Hygiene and Toxicology 2013 Vol: 64(2)</a:t>
            </a: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, p 295-303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07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54936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BACKGROUND OF THE PROJE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2" name="Rechthoek 1"/>
          <p:cNvSpPr/>
          <p:nvPr/>
        </p:nvSpPr>
        <p:spPr>
          <a:xfrm>
            <a:off x="755640" y="1916280"/>
            <a:ext cx="7561440" cy="52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national European Social Fund (ESF) projec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hase 1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sk research (descriptive) – 3 m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hase 2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ransnat. comparisons (study trips, peer reviews, creation of training programme)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15 m (April 2015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d resul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actical training to generate awareness for beginner hairdressers – more than just skin problems!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upporting informative material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hase 3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est experiment in Flanders – 6 m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3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METHOD DESK RESEARC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8" name="Rechthoek 1"/>
          <p:cNvSpPr/>
          <p:nvPr/>
        </p:nvSpPr>
        <p:spPr>
          <a:xfrm>
            <a:off x="755640" y="1916280"/>
            <a:ext cx="756144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earch via docum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ontact members of Coiffure EU (good practices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ontact all European OSHA officer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irculate request via European Network for Workplace Health Promotion (ENWHP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9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PROBLEM OF HEALTH AND SAFE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4" name="Rechthoek 1"/>
          <p:cNvSpPr/>
          <p:nvPr/>
        </p:nvSpPr>
        <p:spPr>
          <a:xfrm>
            <a:off x="755640" y="191628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</a:rPr>
              <a:t>General though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eneral problem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ncreasing tertiary sector and ageing of the popul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roblem among hairdresser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Occupational illnesses are more prevalent in the hairdressing sector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Large turnover in staff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asons for leaving the sector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igh social security costs (government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General lack of awareness about health and safety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sonal distress and loss of incom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25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RISKS LINKED WITH THE WORKPLA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0" name="Rechthoek 1"/>
          <p:cNvSpPr/>
          <p:nvPr/>
        </p:nvSpPr>
        <p:spPr>
          <a:xfrm>
            <a:off x="826920" y="1484280"/>
            <a:ext cx="756144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hysical stres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emical products and substances with allerge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umid environmen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Use of wrong equipmen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nsufficient attention to the design of hairdressing salons (ventilation, lighting, etc.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or dietary habi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rregular and long working hour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31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OCCUPATIONAL ILLNESSES AND DISEAS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6" name="Rechthoek 1"/>
          <p:cNvSpPr/>
          <p:nvPr/>
        </p:nvSpPr>
        <p:spPr>
          <a:xfrm>
            <a:off x="755640" y="1916280"/>
            <a:ext cx="756144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kin complaints (hairdresser’s eczema, allergy to nickel, etc.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usculoskeletal disorders (MSD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ck complain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piratory problem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heumatic complain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petitive Strain Injury (RSI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or circulation, dizziness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37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0" y="476280"/>
            <a:ext cx="9144000" cy="79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SCOPE OF THE RESEARC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539640" y="1484280"/>
            <a:ext cx="777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92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755640" y="1700280"/>
            <a:ext cx="7777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2" name="Rechthoek 1"/>
          <p:cNvSpPr/>
          <p:nvPr/>
        </p:nvSpPr>
        <p:spPr>
          <a:xfrm>
            <a:off x="755640" y="1916280"/>
            <a:ext cx="75614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285840">
              <a:spcBef>
                <a:spcPts val="451"/>
              </a:spcBef>
              <a:buClr>
                <a:srgbClr val="062c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Good Belgian exampl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62c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European measur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62c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Good European example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buClr>
                <a:srgbClr val="062c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2c6a"/>
                </a:solidFill>
                <a:latin typeface="Arial"/>
              </a:rPr>
              <a:t>Good examples from individual countri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651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3" name="Afbeelding 1" descr=""/>
          <p:cNvPicPr/>
          <p:nvPr/>
        </p:nvPicPr>
        <p:blipFill>
          <a:blip r:embed="rId1"/>
          <a:stretch/>
        </p:blipFill>
        <p:spPr>
          <a:xfrm>
            <a:off x="6804000" y="5805360"/>
            <a:ext cx="1933560" cy="8096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2" descr="logobalkje met ESF-tekst[1]"/>
          <p:cNvPicPr/>
          <p:nvPr/>
        </p:nvPicPr>
        <p:blipFill>
          <a:blip r:embed="rId2"/>
          <a:stretch/>
        </p:blipFill>
        <p:spPr>
          <a:xfrm>
            <a:off x="826920" y="5905440"/>
            <a:ext cx="2484720" cy="82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0T08:10:36Z</dcterms:created>
  <dc:creator>ESF020</dc:creator>
  <dc:description/>
  <dc:language>en-US</dc:language>
  <cp:lastModifiedBy>Miet Verhamme</cp:lastModifiedBy>
  <cp:lastPrinted>2004-05-19T12:13:29Z</cp:lastPrinted>
  <dcterms:modified xsi:type="dcterms:W3CDTF">2014-10-10T09:31:46Z</dcterms:modified>
  <cp:revision>387</cp:revision>
  <dc:subject/>
  <dc:title>Geen diatitel</dc:title>
</cp:coreProperties>
</file>