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5E3-2D0B-44C5-9097-4FB2AF77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8FA-9874-41A2-9618-41BAE98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7DC33-C78E-403E-AEAB-4588278F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49FA2-56DB-4B9E-BBC2-2161F132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5B29A-EC59-4F5B-B88A-306C7F6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28D22-0912-4556-B830-EDB2376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236D-11D9-4E65-AE13-67E9B59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95E68-98A7-463C-B501-5F77888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55A3E-3546-454F-B8D7-69C512D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BE86F-0E5E-40D4-977E-EA2D792A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88172-89B7-452E-8E96-C0875036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1E070-7A0F-41F6-9053-7B0F905B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05D-00C9-42F9-9715-395DCD30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0CD4E-DEBF-40B7-9E76-2DB99C37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4B65A-7819-4115-A633-BD2BB1C6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AA457-D258-4EBB-B1A9-E579C6F0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3BB9A-A23C-481F-86DB-C5590FA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7719E-D74E-4366-B1DD-B4CA315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A640B-86C7-4E85-AF4C-210A0DA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D90AF-44A9-4D90-9A94-E30F4A28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7D0DE-05C6-4CD1-BC07-ABA5DA8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7123E-FB06-45CF-8B2E-C60A91AE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9A768-AEFD-4451-8C40-5F0FCD83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09D-0C30-435C-AFB8-99A0D6BA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4DAE5-16C7-4674-BC91-698493B7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BD39F-6248-4DFF-AA3B-45D8C886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3D4A5-81BC-4F28-BAA5-22484ED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6E581-FE88-4910-92FF-9D1E182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50F89-A439-49FF-B32E-66A0AB84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4F2D7-BC33-4B0F-BAB0-944A86F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B0B1-6346-4E84-B132-D282BAFD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D883F-2F5F-4A23-AC34-B6E9F12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CB72C-3558-414E-9C2E-CC79885A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2E309-36F6-4F58-8FCA-B42DAC5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0E13-4718-4AA9-AF7F-96B68A61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32ACA-B755-46EE-8647-0788C14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4CBEB-A5EA-4144-A8C3-4D24D292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5A00D-1EA5-43F8-90FA-C84EB44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CB1C1-3DAB-4BAD-842E-A996247B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AA285-A2A8-47E7-B304-2DB57323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C19F2-5627-4E9C-8B5A-4DFFECDC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F6F0E-6880-4632-9786-5EDA2B92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372F7-504D-4D9B-B4EF-2D6A4D8F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AC2C1-E0A3-4E23-9B20-04E91CD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B7E2B-FBB8-4EAB-8453-344D32BA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696-9165-42A9-8F22-93B6BF3D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B1D7D-D306-4114-938E-2383FCB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AD6AD-8C9F-4272-84C4-EA8C360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8A019-731D-4D50-8D96-E483FEDF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CCB37-C0CC-45D3-A02E-6B1AC540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34244-025A-4D9A-AFE6-E5F5627F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FE66-9CF7-4034-A4FA-D9E2EB7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1DBE-8713-42D4-958F-E900271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5D81-0C47-412E-A0E6-7CC1C2E2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C1C2-6E98-48D7-8B9D-33307806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DCF-4B1E-4881-8EC4-A390FDE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400-283B-42F1-8F4C-1EE49588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54F3-5FB8-4578-AE38-5172DB8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AF8-55C0-4FD1-BE44-7A6CBBB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9219-1857-4AD3-A486-EA92A47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000E-448D-4C20-A408-8CFC07C8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E293-79BA-4098-B4F4-ABE507CE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0E45-2E91-4404-8457-1CF0759C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546C-6305-4E48-98A2-3CEC4C37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E44C-A0CC-4192-9294-7CAA3254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FF58-7959-4023-BFEF-CC730072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13B0-3C22-4272-AD46-9B421E09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EA3-CB7C-46FD-B439-3796E51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1AE3-C0F5-4DC2-BF8B-2D4935C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B930-91EC-4E69-81EF-AD6DADD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3139-565F-4164-AA5F-05A414B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FF55-139E-41D0-95CB-F289BB9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8986-E0FD-449F-B09D-B5717F04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080D-D2A3-40F0-85EA-19A70EA1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EE41-FE0D-499E-913A-5FA27341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1F24-651B-40D0-9358-84D2C20D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AE8D-D487-441A-8D48-1A9B2E0F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2D27-4D5A-42EA-865F-801138B8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1F0-ABFA-4AA9-8328-18888589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0072-8280-48AD-9B09-57C88CE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5B7C-08AB-48E4-8965-08D6FC44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90B46-BD73-4D9F-A78A-6B1E848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62E2-E300-4337-9A54-29CCC80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19BD-F4BD-40AF-A895-F2F5545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E60F-CD87-4981-9451-28A1125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D886-772D-41E3-84FA-3AFC8422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9202-4A15-47C1-AEBD-A47F08A0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1C4D-9A95-4648-AA48-6227CB1A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C4A1-80A1-4571-B23E-31A4025B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800-926C-4C8A-8EF1-B2FC69B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EF88-18A9-4D1E-B221-5426FAE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145CF-C87C-48E7-A177-3412747B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5EEC-55DD-468D-978B-9109C8C8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CD31-C275-42DA-819D-2F1EB580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2CA6-1884-43B9-B8DE-D2C5D5CA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7A757-B97E-4896-AFE9-7DFEE66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69BA-5F2D-40D3-8F26-03AFBD0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22C9-BE86-4D4F-A24C-1EF0FC1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5FF8-349F-4D19-93FF-9960C01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E333-31DE-4E81-B63A-5F70A649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DBE-11A4-4D55-8C0C-52AED53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0621-09FE-4B91-8090-3940C9B4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E1728-A773-4B35-8179-C57958F1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13FB-382D-4F27-BF46-84630D53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2C8B1-F3B8-400A-9FE8-1EAE8CF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09E8-DB2F-417B-847D-D3264379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4C4E-A459-482F-92DB-9984D0C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C2DD-1026-4BE5-BB81-59F29DEE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52204-354A-4D23-ABDC-21B17B6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1B04-4062-4216-B505-6C2F4DD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D215-56E3-4072-87B1-F2CDC95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0BF-8976-47A6-B049-C741DE1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AF52-D53F-4780-976D-9697CC4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0F551-C7A4-471C-80CD-BB6639E8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0D0C-DA31-4868-9145-DDFCB308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2B32-245E-4EFA-B967-E1CE0C57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3AC6-867D-4CF1-B1C6-A5490A9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5508-EB8B-49B8-A8D5-B62BC03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0B10-72DB-4382-93B5-6BAD103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7DEC-0C52-41D7-9F0D-E1F8E05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37537-4645-4049-87EF-05040E03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3C31-7246-45C5-BBC6-60E34D9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6BA-3041-42C8-8C50-FE1AFAB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3F226-C786-4195-BA78-5C9E77F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223A1-5F9C-4E9D-9C29-37BEA65F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9404-AF4F-479B-AAC0-3CAF40DB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DE35-F52D-42A9-88C8-9D8A6C3B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A048D-0A01-421A-9C36-926E767B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0999-2141-48D2-B7E8-7592C305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15B1F-0AB1-404E-8912-0FB970B1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011E9-5855-45E8-8B51-67DED35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FC6C-1BE4-4B76-ADDF-BC89EC7B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1654-8899-4FE7-B4E9-CDC56CE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5F6-88EB-41FF-943D-13AAB40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0EF3-7BBB-4E75-8689-198CEBF9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1AF8-2A2B-44B2-A48B-41C7472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B8A7E-1E5F-44E8-8E1D-CBC4093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72ED6-AA4F-4249-920E-EFFE800A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DC95-ED31-44B9-8EA2-44F62C6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A6A1-0A20-4116-BF01-C99F61B3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197E0-36AB-4908-9721-CDF2D8C9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C1FE0-DBBD-473E-8708-F29C7281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B01AF-496C-4C5A-AF5F-D08F81B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01353-B1B8-4607-84A1-2D8FBA5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7EF-B840-4D3D-9325-AB2C27C930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574-44B4-49D2-851C-162A66A0F0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2C84-9BC3-41CC-A7BB-9825525C4C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704-F637-4683-8219-C7C35500BA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D32-F210-4610-A3D6-9B52727B26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A0F5-8BB6-4322-A8B4-B5BC54D78B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E9C8-9F92-46CC-98B1-E627C1DEF8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8BD-BC28-4BBB-AE9C-B7C347764C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72DD-7508-4510-B5BA-71F88CDC21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2514-3016-40E8-BC97-BA7876B46B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55D5-4481-4C54-9283-E8B51BCB47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4662-D041-48F3-9F8B-BBCEB093C5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873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nl-BE" sz="4400" spc="-1" strike="noStrike">
                <a:solidFill>
                  <a:srgbClr val="000000"/>
                </a:solidFill>
                <a:latin typeface="Times New Roman"/>
              </a:rPr>
              <a:t>Op-één-haar-na’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980720"/>
            <a:ext cx="77724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D – WORKING GROUP MEETING 13 OCT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RANSNATIONAL ESF PROJECT (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4969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INAL REPORT PHASE 1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(January - March 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Promoter: UBK/UCB vzw-as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Author: Miet Verh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0" y="549360"/>
            <a:ext cx="916632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 CLOSE  SHAVE’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DIVIDUAL COUNTR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Denmark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Pola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Croatia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Irela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Germany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Malt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France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Spai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Austria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Cypru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The Netherlands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Finla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Switzerland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Ital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Latvia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Swede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Great Britai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Rechthoek 1"/>
          <p:cNvSpPr/>
          <p:nvPr/>
        </p:nvSpPr>
        <p:spPr>
          <a:xfrm>
            <a:off x="755640" y="1916280"/>
            <a:ext cx="7561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9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4" name="Rechthoek 1"/>
          <p:cNvSpPr/>
          <p:nvPr/>
        </p:nvSpPr>
        <p:spPr>
          <a:xfrm>
            <a:off x="755640" y="1916280"/>
            <a:ext cx="756144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EUROPEA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ni Europ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reation of an app for smartphon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elgium: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isktrainer programm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,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SF project ‘Practicability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’ (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ctor-specific hardcopy manual with OIRA tool, campaign to generate awareness about good pregnancy policy, work differentiation tool, balance between private and professional life), etc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enmark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telephone hotline for hairdressers, Health and Safety training programmes: taught and trained at school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roati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&amp;S: included in school curriculum, free workshops, e.g. ‘Your hands are the most important tool’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5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Rechthoek 1"/>
          <p:cNvSpPr/>
          <p:nvPr/>
        </p:nvSpPr>
        <p:spPr>
          <a:xfrm>
            <a:off x="755640" y="1916280"/>
            <a:ext cx="7561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Germany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GW (insurance company): special training centre for hairdressers: Studio 78 (Bochem), Hamburg: website and free online database ‘KomNet Arbeitsschutz’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rance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ixtilinear-ErgoCoiffu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aining, Document Unique training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ustria: ‘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afe Hair goes to school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’,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tart!klar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 Netherlands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hort- and long-term training programmes Kapperspoli, digital test hand eczema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witzer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aining for employers (4 employees) about safety manua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1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Rechthoek 1"/>
          <p:cNvSpPr/>
          <p:nvPr/>
        </p:nvSpPr>
        <p:spPr>
          <a:xfrm>
            <a:off x="755640" y="1916280"/>
            <a:ext cx="7561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tvi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job training H&amp;S for schools, manual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Great Britain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airdressing website Health &amp; Safety Executive (HSE), 'Bad Hand Day?’ campaign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o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Vocational training – Health and Safety for starters, employers, employees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re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aking Care of Business, BeSMART.ie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lt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spection campaign for the hairdressing sector, etc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pain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ational inquiry into working conditions in the hairdressing 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yprus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ctions in relation to first OIRA tool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2" name="Rechthoek 1"/>
          <p:cNvSpPr/>
          <p:nvPr/>
        </p:nvSpPr>
        <p:spPr>
          <a:xfrm>
            <a:off x="755640" y="1916280"/>
            <a:ext cx="75614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in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valuation plan ‘The ergonomic workplace method’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aly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nti-smoking campaign (flyers, poster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weden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ematic environmental (SAM) Project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3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8" name="Rechthoek 1"/>
          <p:cNvSpPr/>
          <p:nvPr/>
        </p:nvSpPr>
        <p:spPr>
          <a:xfrm>
            <a:off x="755640" y="1916280"/>
            <a:ext cx="756144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creasing efforts being made in different countri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vision of inform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oo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articipative and interactive initiativ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wareness generating campaig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ost important focus: prevention for and protection of the ski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ore extrinsic than intrinsic motiv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sequence: importance of integration into the learning proces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arning process: practice-oriented, real life, dialogue, refle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9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Rechthoek 1"/>
          <p:cNvSpPr/>
          <p:nvPr/>
        </p:nvSpPr>
        <p:spPr>
          <a:xfrm>
            <a:off x="755640" y="1916280"/>
            <a:ext cx="7561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mportant to develop further preventive strategies for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eginner hairdress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airdressing employe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mploy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Labour marke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5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RMATION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UBK/UCB vzw-asb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Miet Verhamm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Coordinator European Policy and European Project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Vijfwindgatenstraat 21 F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9000 Gh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miet.verhamme@coiffure.or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0032 471 77 07 87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0" name="Picture 12" descr="logobalkje met ESF-tekst[1]"/>
          <p:cNvPicPr/>
          <p:nvPr/>
        </p:nvPicPr>
        <p:blipFill>
          <a:blip r:embed="rId1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  <p:pic>
        <p:nvPicPr>
          <p:cNvPr id="591" name="Afbeelding 1" descr=""/>
          <p:cNvPicPr/>
          <p:nvPr/>
        </p:nvPicPr>
        <p:blipFill>
          <a:blip r:embed="rId2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POINTS TO DISCU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Rechthoek 1"/>
          <p:cNvSpPr/>
          <p:nvPr/>
        </p:nvSpPr>
        <p:spPr>
          <a:xfrm>
            <a:off x="755640" y="1916280"/>
            <a:ext cx="756144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otive behind the project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ckground to the projec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ethod desk researc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blem of health and safet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isks linked to the work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ccupational illnesses and diseas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cope of the researc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dividual countr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cussing a few exampl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1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OTIVE BEHIND THE PROJ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6" name="Rechthoek 1"/>
          <p:cNvSpPr/>
          <p:nvPr/>
        </p:nvSpPr>
        <p:spPr>
          <a:xfrm>
            <a:off x="755640" y="1916280"/>
            <a:ext cx="756144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2c6a"/>
                </a:solidFill>
                <a:latin typeface="Arial"/>
              </a:rPr>
              <a:t>Danish research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Anne Bregnhoj, </a:t>
            </a:r>
            <a:r>
              <a:rPr b="0" i="1" lang="en-GB" sz="1800" spc="-1" strike="noStrike">
                <a:solidFill>
                  <a:srgbClr val="062c6a"/>
                </a:solidFill>
                <a:latin typeface="Arial"/>
              </a:rPr>
              <a:t>Prevention of hand eczema among Danish hairdressing apprentices, 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(2011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2c6a"/>
                </a:solidFill>
                <a:latin typeface="Arial"/>
              </a:rPr>
              <a:t>Croatian research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Marija Kujundžić Brkulj, Jelena Macan</a:t>
            </a:r>
            <a:r>
              <a:rPr b="0" i="1" lang="en-GB" sz="1800" spc="-1" strike="noStrike">
                <a:solidFill>
                  <a:srgbClr val="062c6a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Skin Protection at Work in Croatian Hairdressers - </a:t>
            </a:r>
            <a:r>
              <a:rPr b="0" i="1" lang="en-GB" sz="1800" spc="-1" strike="noStrike">
                <a:solidFill>
                  <a:srgbClr val="062c6a"/>
                </a:solidFill>
                <a:latin typeface="Arial"/>
              </a:rPr>
              <a:t>Archives of Industrial Hygiene and Toxicology 2013 Vol: 64(2)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, p 295-30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7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ACKGROUND OF THE PROJ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Rechthoek 1"/>
          <p:cNvSpPr/>
          <p:nvPr/>
        </p:nvSpPr>
        <p:spPr>
          <a:xfrm>
            <a:off x="755640" y="1916280"/>
            <a:ext cx="756144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national European Social Fund (ESF) projec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ase 1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sk research (descriptive) – 3 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ase 2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ransnat. comparisons (study trips, peer reviews, creation of training programme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5 m (April 2015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d resul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actical training to generate awareness for beginner hairdressers – more than just skin problems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upporting informative material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ase 3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st experiment in Flanders – 6 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ETHOD DESK 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Rechthoek 1"/>
          <p:cNvSpPr/>
          <p:nvPr/>
        </p:nvSpPr>
        <p:spPr>
          <a:xfrm>
            <a:off x="755640" y="1916280"/>
            <a:ext cx="756144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earch via docum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tact members of Coiffure EU (good practice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tact all European OSHA offic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irculate request via European Network for Workplace Health Promotion (ENWHP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9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PROBLEM OF HEALTH AND SAFE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Rechthoek 1"/>
          <p:cNvSpPr/>
          <p:nvPr/>
        </p:nvSpPr>
        <p:spPr>
          <a:xfrm>
            <a:off x="755640" y="191628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General though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eneral proble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creasing tertiary sector and ageing of the popul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oblem among hairdress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ccupational illnesses are more prevalent in the hairdressing 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Large turnover in staff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asons for leaving the 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igh social security costs (government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General lack of awareness about health and safety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sonal distress and loss of incom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5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ISKS LINKED WITH THE WORKPL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Rechthoek 1"/>
          <p:cNvSpPr/>
          <p:nvPr/>
        </p:nvSpPr>
        <p:spPr>
          <a:xfrm>
            <a:off x="826920" y="1484280"/>
            <a:ext cx="756144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hysical stres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emical products and substances with allerge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umid environ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Use of wrong equip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sufficient attention to the design of hairdressing salons (ventilation, lighting, etc.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or dietary habi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rregular and long working hou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1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OCCUPATIONAL ILLNESSES AND DISEA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Rechthoek 1"/>
          <p:cNvSpPr/>
          <p:nvPr/>
        </p:nvSpPr>
        <p:spPr>
          <a:xfrm>
            <a:off x="755640" y="1916280"/>
            <a:ext cx="756144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kin complaints (hairdresser’s eczema, allergy to nickel, etc.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usculoskeletal disorders (MSD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ck complai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piratory problem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heumatic complai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petitive Strain Injury (RSI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or circulation, dizziness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7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COPE OF THE 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Rechthoek 1"/>
          <p:cNvSpPr/>
          <p:nvPr/>
        </p:nvSpPr>
        <p:spPr>
          <a:xfrm>
            <a:off x="755640" y="1916280"/>
            <a:ext cx="7561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Good Belgian exampl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European measur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Good European exampl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Good examples from individual countr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3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8:10:36Z</dcterms:created>
  <dc:creator>ESF020</dc:creator>
  <dc:description/>
  <dc:language>en-US</dc:language>
  <cp:lastModifiedBy>Miet Verhamme</cp:lastModifiedBy>
  <cp:lastPrinted>2004-05-19T12:13:29Z</cp:lastPrinted>
  <dcterms:modified xsi:type="dcterms:W3CDTF">2014-10-10T09:31:46Z</dcterms:modified>
  <cp:revision>387</cp:revision>
  <dc:subject/>
  <dc:title>Geen diatitel</dc:title>
</cp:coreProperties>
</file>